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7FE83-82ED-442A-B0CC-54A4A2B07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2AD81-FC06-42EF-B067-8023746A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3A00E-C0CC-44F0-9F86-2A27C6C15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4B766-CFF5-4BC4-8363-2E0F42F31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1E26-734B-4CE5-95A2-E39743E56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51BD-63AC-43E4-AF96-E0032665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47F6-FE2A-4E7E-8C03-437F496A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986B-E39A-4970-930C-0A204B92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9B19-E237-4AD2-805D-34D19AFE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D132-201E-4D65-80F1-C2B4EBE2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148D-961A-4A25-A8B3-4B2CAB7A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9F983-5F3A-4846-AF97-FD32749C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5A61-6191-4D25-8435-9B79E114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5080-94C1-4AE3-98FF-9C3F6568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476A-B20A-4B6C-A09C-3E957E05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8625-1BCA-462E-BF4C-291BBA55D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BCCC-5499-4335-BD6F-B17C574F0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0BA72-AE3C-4720-B2F4-34311EDD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CD006-D8CB-4815-A714-9225F380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A7FBE-0EA3-4F1A-8E00-6B016862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BB670-8F2F-48BF-A6D2-3CB9B137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0F848-7942-46D6-A136-0C68BCB8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FBEDD-4FB5-4684-B460-E56B60AA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C5EFB-A097-49F9-9DC2-6D2A8DC7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BD1B-2B77-4FC1-B7AF-A1C3AB814CE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E069-1A60-493F-8A71-887BD23F02E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06292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«КРАСНОКНИЖНЫЕ» ВИДЫ ПТИЦ КЛЕТСКОГО РАЙОНА.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78920" y="3716280"/>
            <a:ext cx="8425080" cy="29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Исполнитель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Могутов Вадим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ученик 8 «А» класса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МОУ «Захаровская сош»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Клетского района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Руководитель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Ратьева А.Н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учитель биологии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ысшей квалификационной категории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Число видов птиц в экогруппах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1" name="Object 4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37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Arial Black"/>
              </a:rPr>
              <a:t>     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e5e5ff"/>
                </a:solidFill>
                <a:latin typeface="Arial Black"/>
              </a:rPr>
              <a:t>Показатель видового сходства</a:t>
            </a: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           ( </a:t>
            </a:r>
            <a:r>
              <a:rPr b="1" lang="ar-SA" sz="2400" spc="-1" strike="noStrike">
                <a:solidFill>
                  <a:srgbClr val="e5e5ff"/>
                </a:solidFill>
                <a:latin typeface="Garamond"/>
                <a:cs typeface="Arial"/>
              </a:rPr>
              <a:t>ﯖ</a:t>
            </a:r>
            <a:r>
              <a:rPr b="1" lang="ru-RU" sz="2400" spc="-1" strike="noStrike">
                <a:solidFill>
                  <a:srgbClr val="e5e5ff"/>
                </a:solidFill>
                <a:latin typeface="Garamond"/>
                <a:ea typeface="Arial"/>
              </a:rPr>
              <a:t>) </a:t>
            </a:r>
            <a:r>
              <a:rPr b="1" lang="ru-RU" sz="2400" spc="-1" strike="noStrike">
                <a:solidFill>
                  <a:srgbClr val="e5e5ff"/>
                </a:solidFill>
                <a:latin typeface="Arial Black"/>
                <a:ea typeface="Arial"/>
              </a:rPr>
              <a:t>«краснокнижных» птиц из разных местообитаний в Клетском районе.</a:t>
            </a: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11280" y="1773360"/>
          <a:ext cx="8208720" cy="4620960"/>
        </p:xfrm>
        <a:graphic>
          <a:graphicData uri="http://schemas.openxmlformats.org/drawingml/2006/table">
            <a:tbl>
              <a:tblPr/>
              <a:tblGrid>
                <a:gridCol w="1366920"/>
                <a:gridCol w="1371600"/>
                <a:gridCol w="1368360"/>
                <a:gridCol w="1363680"/>
                <a:gridCol w="1371600"/>
                <a:gridCol w="1366560"/>
              </a:tblGrid>
              <a:tr h="94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есто-обитания пти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Число вид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эффициент видового сходст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тепные биотопы (СБ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ревесно-кустар-ников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Дк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дно-болотные (Вб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селе-ния человека (ПЧ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Экологический анализ фауны и населения птиц по местообитаниям: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тепные целинные биотоп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8" name="Picture 6" descr="Scan10012"/>
          <p:cNvPicPr/>
          <p:nvPr/>
        </p:nvPicPr>
        <p:blipFill>
          <a:blip r:embed="rId1"/>
          <a:stretch/>
        </p:blipFill>
        <p:spPr>
          <a:xfrm>
            <a:off x="684360" y="2708280"/>
            <a:ext cx="3743280" cy="2305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Scan10018"/>
          <p:cNvPicPr/>
          <p:nvPr/>
        </p:nvPicPr>
        <p:blipFill>
          <a:blip r:embed="rId2"/>
          <a:stretch/>
        </p:blipFill>
        <p:spPr>
          <a:xfrm>
            <a:off x="5003640" y="1989000"/>
            <a:ext cx="347040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Древесно-кустарниковые насажден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1" name="Picture 6" descr="Scan10013"/>
          <p:cNvPicPr/>
          <p:nvPr/>
        </p:nvPicPr>
        <p:blipFill>
          <a:blip r:embed="rId1"/>
          <a:stretch/>
        </p:blipFill>
        <p:spPr>
          <a:xfrm>
            <a:off x="468360" y="2997360"/>
            <a:ext cx="4032360" cy="2066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Scan10019"/>
          <p:cNvPicPr/>
          <p:nvPr/>
        </p:nvPicPr>
        <p:blipFill>
          <a:blip r:embed="rId2"/>
          <a:stretch/>
        </p:blipFill>
        <p:spPr>
          <a:xfrm>
            <a:off x="5076720" y="2060640"/>
            <a:ext cx="324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одные и околоводные угодь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4" name="Picture 6" descr="Scan10015"/>
          <p:cNvPicPr/>
          <p:nvPr/>
        </p:nvPicPr>
        <p:blipFill>
          <a:blip r:embed="rId1"/>
          <a:stretch/>
        </p:blipFill>
        <p:spPr>
          <a:xfrm>
            <a:off x="428760" y="2781360"/>
            <a:ext cx="4071960" cy="2598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Scan10020"/>
          <p:cNvPicPr/>
          <p:nvPr/>
        </p:nvPicPr>
        <p:blipFill>
          <a:blip r:embed="rId2"/>
          <a:stretch/>
        </p:blipFill>
        <p:spPr>
          <a:xfrm>
            <a:off x="5003640" y="1700280"/>
            <a:ext cx="352764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аселенные пункт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7" name="Picture 6" descr="Scan10016"/>
          <p:cNvPicPr/>
          <p:nvPr/>
        </p:nvPicPr>
        <p:blipFill>
          <a:blip r:embed="rId1"/>
          <a:stretch/>
        </p:blipFill>
        <p:spPr>
          <a:xfrm>
            <a:off x="468360" y="2997360"/>
            <a:ext cx="4030560" cy="1892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Scan10021"/>
          <p:cNvPicPr/>
          <p:nvPr/>
        </p:nvPicPr>
        <p:blipFill>
          <a:blip r:embed="rId2"/>
          <a:stretch/>
        </p:blipFill>
        <p:spPr>
          <a:xfrm>
            <a:off x="5003640" y="1773360"/>
            <a:ext cx="35719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аключение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бстоятельства, положительно повлиявшие на орнитофауну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нижение антропогенных нагрузок на значительную часть территории, занятой сельхозполями в недавнем прошлом привело к росту численности «краснокнижных» птиц – дрофы, стрепета, журавля-красавки и др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тмечено несколько антропогенных «резерватов» с повышенной плотностью орнитонаселения – это брошенные хутора Свечниковский, Платонов и др с их бывшими землями, где уже много лет не ведется выпас скота и , как следствие, здесь восстановился травостой и исключено хищничество собак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тога соломы (после запрета их сжигания с 1995 г по Клетскому району) все чаще используются для гнездования степными орлами. Кроме того, в этих скирдах наблюдается скопление мышевидных грызуно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аконец, следует подчеркнуть особую остроту проблемы сохранения «краснокнижных» и регионально редких видов птиц в районе, где нет ни видовых резерватов, ни даже воспроизводственных участков в охотхозяйствах, а лишь процветает браконьерство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аши исследования показали, что в Волгоградском Задонье есть чем гордиться и есть что охранять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Благодарю за внимание!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ЦЕЛЬ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Garamond"/>
              </a:rPr>
              <a:t>Проведение масштабного изучения орнитофауны «краснокнижных» видов Клетского района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АКТУАЛЬНОСТЬ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Хозяйственная деятельность человека и антропогенное изменение климата, нарушение круговорота веществ, и трансформация энергии неизбежно приводит к изменению условий обитания живых существ на Земле. Природные ландшафты или разрушаются, или превращаются в антропогенные. И этот процесс остановить невозможно. Многим видам животных грозит опасность исчезновения, и мы обязаны приложить усилия для их сохран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АДАЧИ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ыявить «краснокнижные» виды птиц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сследовать биотопическое распределение «краснокнижных» птиц и дать количественную характеристик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зучить некоторые стороны биологии и экологии «краснокнижных» видов в связи с антропогенными изменениями их местообитани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ыяснить причины исчезновения этих птиц и определить возможные пути сохранения и восстановления численности этих птиц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Место исследования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432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ЛЕТСКИЙ РАЙО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Граничит с Серафимовическим (северо-запад), Суровикинским (южная), Калачевским (юго-восток), Иловлинским и Фроловским (восток) районами, а также с Ростовской областью (юго-запад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Рельеф: отвесные меловые склоны, песчаные равнинные участки, солонцы, нагорные и байрачные лес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Климат: засушливый, резко континентальны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Типы почв: светло-каштановые, местами плодородные луговые, темно-каштановые, меловые и супесчаны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Растительность: степные фитоценозы- полынно-типчаковые и типчаково-ковыльные фитоценозы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0" y="1341000"/>
            <a:ext cx="432576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6" descr="Scan10017"/>
          <p:cNvPicPr/>
          <p:nvPr/>
        </p:nvPicPr>
        <p:blipFill>
          <a:blip r:embed="rId1"/>
          <a:stretch/>
        </p:blipFill>
        <p:spPr>
          <a:xfrm>
            <a:off x="4643280" y="1738440"/>
            <a:ext cx="42865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Материалы и методы работы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атериалы: данные, результаты наблюдений за птицами и учет их в течение 3 полевых сезонов (2005-2007г); отчетные материалы охотинспекции; оригинальные фотоматериалы; ксерокопии районного Госземельнадзора; квалификационная работа Ратьевой А.Н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етоды: Количественные учеты птиц осуществлялись на постоянных трансектах, проложенных в наиболее типичных биотопах обследованной территори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эффициенты сходства птиц определялись по формуле Серенсона и Маргелеф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  <a:ea typeface="Arial"/>
              </a:rPr>
              <a:t>  </a:t>
            </a:r>
            <a:r>
              <a:rPr b="0" lang="ar-SA" sz="1800" spc="-1" strike="noStrike">
                <a:solidFill>
                  <a:srgbClr val="ffffff"/>
                </a:solidFill>
                <a:latin typeface="Garamond"/>
                <a:cs typeface="Arial"/>
              </a:rPr>
              <a:t>ﯖ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  <a:ea typeface="Arial"/>
              </a:rPr>
              <a:t>=_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  <a:ea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  <a:ea typeface="Arial"/>
              </a:rPr>
              <a:t>С_,где </a:t>
            </a:r>
            <a:r>
              <a:rPr b="0" lang="ar-SA" sz="1800" spc="-1" strike="noStrike">
                <a:solidFill>
                  <a:srgbClr val="ffffff"/>
                </a:solidFill>
                <a:latin typeface="Garamond"/>
                <a:cs typeface="Arial"/>
              </a:rPr>
              <a:t>ﯖ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  <a:ea typeface="Arial"/>
              </a:rPr>
              <a:t>- показатель сходства между двумя про-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  <a:ea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  <a:ea typeface="Arial"/>
              </a:rPr>
              <a:t>А+В       бам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  <a:ea typeface="Arial"/>
              </a:rPr>
              <a:t>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  <a:ea typeface="Arial"/>
              </a:rPr>
              <a:t>А и В – число видов в сравниваемых пробах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  <a:ea typeface="Arial"/>
              </a:rPr>
              <a:t>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  <a:ea typeface="Arial"/>
              </a:rPr>
              <a:t>С – число общих видо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  <a:ea typeface="Arial"/>
              </a:rPr>
              <a:t>На экскурсии в дневнике отмечались встреченные виды птиц, состояние погоды, описывалось поведение птиц, места кормежк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  <a:ea typeface="Arial"/>
              </a:rPr>
              <a:t>В случаях затруднения видового определения использовались полевые определители (Сунгуров, 1960 и др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200720" cy="167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Общий обзор «Краснокнижных» птиц Клетского района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5" name="Picture 450" descr="Scan10022"/>
          <p:cNvPicPr/>
          <p:nvPr/>
        </p:nvPicPr>
        <p:blipFill>
          <a:blip r:embed="rId1"/>
          <a:stretch/>
        </p:blipFill>
        <p:spPr>
          <a:xfrm>
            <a:off x="1619280" y="1484280"/>
            <a:ext cx="5040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Биотопическое распределение «краснокнижных» птиц в Клетском район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8229600" cy="5180040"/>
        </p:xfrm>
        <a:graphic>
          <a:graphicData uri="http://schemas.openxmlformats.org/drawingml/2006/table">
            <a:tbl>
              <a:tblPr/>
              <a:tblGrid>
                <a:gridCol w="2890800"/>
                <a:gridCol w="1079640"/>
                <a:gridCol w="1008000"/>
                <a:gridCol w="1008000"/>
                <a:gridCol w="1152720"/>
                <a:gridCol w="1090440"/>
              </a:tblGrid>
              <a:tr h="94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тряды пти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сего вид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Число видов в биотопа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сел-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истообраз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усеобраз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околообраз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Журавлеобраз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жанкообраз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овообраз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ТОГО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Экологические группы «краснокнижных» птиц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68360" y="1628640"/>
          <a:ext cx="8229600" cy="5457960"/>
        </p:xfrm>
        <a:graphic>
          <a:graphicData uri="http://schemas.openxmlformats.org/drawingml/2006/table">
            <a:tbl>
              <a:tblPr/>
              <a:tblGrid>
                <a:gridCol w="1150920"/>
                <a:gridCol w="3673440"/>
                <a:gridCol w="1655640"/>
                <a:gridCol w="1749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№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/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когрупп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Число вид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% к общему числу вид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Луго-полев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ревесно-кустарников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дно-болот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СЕГО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06:37:50Z</dcterms:created>
  <dc:creator>Егунова И.В.</dc:creator>
  <dc:description/>
  <dc:language>en-US</dc:language>
  <cp:lastModifiedBy>User</cp:lastModifiedBy>
  <dcterms:modified xsi:type="dcterms:W3CDTF">2008-12-25T12:46:20Z</dcterms:modified>
  <cp:revision>22</cp:revision>
  <dc:subject/>
  <dc:title>«КРАСНОКНИЖНЫЕ» ВИДЫ ПТИЦ КЛЕТСКОГО РАЙОНА.</dc:title>
</cp:coreProperties>
</file>